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6D9-C698-4FDC-B74A-8A4E54C7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3D3-DA08-4688-B03E-7830A3B2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FC7-6887-4F84-AA0B-CD57B970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47A-B037-494A-A702-CB356FEF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768F-BC33-448A-87DA-522B053E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87CA-61BD-4C41-BB9F-AFB7DD4E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F12C-AFDF-412C-9744-E4DCAFB5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F064-2443-4115-B8C0-8233472D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357F-C7CF-49BC-8726-41940757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96B-A710-4735-AEFF-D8139F9A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7FC-BA70-42FB-845E-B36881D4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33F-42B6-44DC-A0CB-1A4C0E1A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46CA-7170-4620-81E2-D3B4E5A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0F3A-9514-450C-A72F-AEF3D05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427-A3F5-4514-9DA3-CEF61630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7C87-CF49-43AA-BCA9-C055ABA9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D95B-92D1-4392-B21B-E6A52789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034-FFF2-4047-A728-CEF6F9D6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079-16CE-4C91-8DF0-E41E4ABF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1B1-A714-4882-9D16-FCA0D314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385-6DCB-42E0-A976-DB54A7BE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4A6-B67E-4929-BB70-CAF88D3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0F5-CC76-497E-B22C-590319F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BB1-5956-40EE-B1C4-5C2FC63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0B7C-7BF5-4FC2-9B52-6D731637E8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EB0-DE47-4FA4-8BD7-100F6DF3A5E3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012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Me llamo ______________ Clase 801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La fecha es el 31 de marzo del 2016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Proposito # 64: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¿Fuiste al cine o el museo durante el verano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Verdana"/>
              </a:rPr>
              <a:t>L.O: to learn music vocabular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scribe 2 oraciones originales con cada verbo en el preterito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r (to go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erder (to lose/miss) *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same endings as “dar”*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ar (to give)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lir (to go out)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same endings as “dar”*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r (to be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5080" y="0"/>
            <a:ext cx="824364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Vocabulario Nuev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Los instrumento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4" descr="ANd9GcR4YWqLAHtajCRUMgO2wsBjxT9EePj_4yYM1MC8zcHWbnBI3pdmRg"/>
          <p:cNvPicPr/>
          <p:nvPr/>
        </p:nvPicPr>
        <p:blipFill>
          <a:blip r:embed="rId1"/>
          <a:stretch/>
        </p:blipFill>
        <p:spPr>
          <a:xfrm>
            <a:off x="0" y="1371600"/>
            <a:ext cx="2048040" cy="222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ANd9GcSDlpOgMYtiwc-LPu6dtYJ7-dAABWgJC347yf1xWFln6mrOdwMU"/>
          <p:cNvPicPr/>
          <p:nvPr/>
        </p:nvPicPr>
        <p:blipFill>
          <a:blip r:embed="rId2"/>
          <a:stretch/>
        </p:blipFill>
        <p:spPr>
          <a:xfrm>
            <a:off x="4648320" y="13716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S9kwQbGG517aVNqNYbFEO7jZuuYiXc_lchl9ggW9G4oqdENQh_"/>
          <p:cNvPicPr/>
          <p:nvPr/>
        </p:nvPicPr>
        <p:blipFill>
          <a:blip r:embed="rId3"/>
          <a:stretch/>
        </p:blipFill>
        <p:spPr>
          <a:xfrm>
            <a:off x="6657840" y="1371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Nd9GcSxwEl48P3QcmSrpHYMyTxmigQAR3u0fHPDGej0749l-dnKstvf9g"/>
          <p:cNvPicPr/>
          <p:nvPr/>
        </p:nvPicPr>
        <p:blipFill>
          <a:blip r:embed="rId4"/>
          <a:stretch/>
        </p:blipFill>
        <p:spPr>
          <a:xfrm>
            <a:off x="2133720" y="1447920"/>
            <a:ext cx="2466720" cy="185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ANd9GcQ695BGTWWx4kJ985EMNJINADEYnCuekMismvhwEa18mt0cmCke"/>
          <p:cNvPicPr/>
          <p:nvPr/>
        </p:nvPicPr>
        <p:blipFill>
          <a:blip r:embed="rId5"/>
          <a:stretch/>
        </p:blipFill>
        <p:spPr>
          <a:xfrm>
            <a:off x="4648320" y="41148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ANd9GcS2BTiaOfT540aEzc_jPyeCoYaDfbyKcWE9z5dj5QMtieDc_8w3"/>
          <p:cNvPicPr/>
          <p:nvPr/>
        </p:nvPicPr>
        <p:blipFill>
          <a:blip r:embed="rId6"/>
          <a:stretch/>
        </p:blipFill>
        <p:spPr>
          <a:xfrm>
            <a:off x="6934320" y="4191120"/>
            <a:ext cx="2033640" cy="162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ANd9GcSrABpGj1kkB6bdf_Q9k1BAfPKfxmv7XvwHPtso5t9E9Qaa6mRh"/>
          <p:cNvPicPr/>
          <p:nvPr/>
        </p:nvPicPr>
        <p:blipFill>
          <a:blip r:embed="rId7"/>
          <a:stretch/>
        </p:blipFill>
        <p:spPr>
          <a:xfrm>
            <a:off x="2419200" y="380052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311760" y="3505320"/>
            <a:ext cx="138312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l piano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501280" y="3276720"/>
            <a:ext cx="136476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violí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64520" y="3276720"/>
            <a:ext cx="188136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 guitarra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897960" y="3276720"/>
            <a:ext cx="195480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acordeó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41840" y="5867280"/>
            <a:ext cx="20246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s baterí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3" name="Picture 16" descr="ANd9GcSAMCAD7QdFwU0Q-WzIw9HNKxrn4AycH4gyGn78e_GEhtPWJvDKQw"/>
          <p:cNvPicPr/>
          <p:nvPr/>
        </p:nvPicPr>
        <p:blipFill>
          <a:blip r:embed="rId8"/>
          <a:stretch/>
        </p:blipFill>
        <p:spPr>
          <a:xfrm>
            <a:off x="0" y="38862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7"/>
          <p:cNvSpPr/>
          <p:nvPr/>
        </p:nvSpPr>
        <p:spPr>
          <a:xfrm>
            <a:off x="2848320" y="6172200"/>
            <a:ext cx="118368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bajo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0640" y="6019920"/>
            <a:ext cx="20660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 trompeta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6991920" y="5867280"/>
            <a:ext cx="173052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saxofó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514040" y="838080"/>
            <a:ext cx="26924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he instru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9120" y="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Ejercicio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258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3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8; en oraciones completa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4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8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EXTO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pia y 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5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9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33520" y="2895480"/>
            <a:ext cx="8243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Tarea # 6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22:23:17Z</dcterms:created>
  <dc:creator>Helen Zumaeta</dc:creator>
  <dc:description/>
  <dc:language>en-US</dc:language>
  <cp:lastModifiedBy>Helen Zumaeta</cp:lastModifiedBy>
  <cp:lastPrinted>2016-03-31T13:22:21Z</cp:lastPrinted>
  <dcterms:modified xsi:type="dcterms:W3CDTF">2016-03-31T15:36:11Z</dcterms:modified>
  <cp:revision>17</cp:revision>
  <dc:subject/>
  <dc:title>Me llamo ______________ Clase 8im La fecha es el 15 de noviembre del 2012</dc:title>
</cp:coreProperties>
</file>